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EA0-DCDA-4C82-9C1D-2C48630B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466-CB92-49D5-A573-09AC969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28F-61F8-448B-B716-6E535635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D67-D5F2-4BC0-B255-F4604F0E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F6-949C-49EC-AE77-F8777D91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99E-6377-4C5C-B6E2-341B7673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EF0-53B4-49A2-AE78-5A7F3BB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3E7-B853-4BED-80D0-8AA452F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4EC-A755-4142-B433-C178795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F1D-8B7D-46FC-93D6-0FDF4AE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F76-9428-47BA-BFDD-561EA6B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B66-A8C0-48E3-88B3-F63B0A7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B5EB-4617-4BD4-AE96-653D6747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4760" y="1152360"/>
            <a:ext cx="10056960" cy="462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806720" y="6718320"/>
            <a:ext cx="496404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Автор: Канева Зоя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47840"/>
            <a:ext cx="403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Методическая през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0560" y="447840"/>
            <a:ext cx="9118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ополагающий вопрос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Как мы тратим своё время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ные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1.Почему мы ничего не успеваем?</a:t>
            </a:r>
            <a:br>
              <a:rPr sz="3100"/>
            </a:b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2.На что мы тратим большую часть времени?</a:t>
            </a:r>
            <a:br>
              <a:rPr sz="3100"/>
            </a:b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3. Возможно ли управлять временем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чебные предметы: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математика и информати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частники: 7 класс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0560" y="447840"/>
            <a:ext cx="908712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ие цели проект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Научить находить статистические характеристики(среднее арифметическое, моду, медиану, размах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Сформировать представления о статистических исследованиях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Сформировать навыки самостоятельной работы, работы в команде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Воспитать организованность, самостоятельность, самоконтроль, ответственность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0120" y="447840"/>
            <a:ext cx="89596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Учебные вопросы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Как можно рассчитать затраченное время?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акие статистические характеристики используют для расчёта времени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Какой способ используют для наглядного представления времени, затраченного на пользу и попусту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сколько времени мы тратим на развлечения, на здоровье, на учёбу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 сколько времени у нас уходит на пользу и сколько попусту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 Статистические данные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 Представление данных в виде таблиц, диаграмм, граф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0560" y="1876320"/>
            <a:ext cx="908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представления исследований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